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3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wmf" ContentType="image/x-wmf"/>
  <Override PartName="/ppt/media/image23.jpeg" ContentType="image/jpeg"/>
  <Override PartName="/ppt/media/image3.png" ContentType="image/png"/>
  <Override PartName="/ppt/media/image17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8404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3"/>
          </p:nvPr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5CBF-87F5-45B4-9B39-F7F1011DC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9740-64E8-42DB-85BA-18CDC2EDF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D127-AAA9-4D9F-9044-7278391F3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CB3B-8AD6-4B1D-879E-61DE087C3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8C7C-1330-49B1-B385-5606AFD92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80FD-83E3-42C6-9C65-D1BBC8571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A510-BEE6-45F4-A1F7-49D11B43B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8044-8D96-4FDC-A0A4-714ED2EFB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492B-760A-418E-8B35-7928680FD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82A8-700B-420C-8CE2-79F3376A3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EF9A-E7D4-4A3E-9004-A2F3B48A2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5FDF-D15C-452D-A13D-39E178879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5640" y="26280"/>
            <a:ext cx="83534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92000" y="1052640"/>
            <a:ext cx="83520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92000" y="3647880"/>
            <a:ext cx="83520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55640" y="26280"/>
            <a:ext cx="83534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92000" y="1052640"/>
            <a:ext cx="4075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71680" y="1052640"/>
            <a:ext cx="4075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92000" y="3647880"/>
            <a:ext cx="4075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71680" y="3647880"/>
            <a:ext cx="4075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640" y="26280"/>
            <a:ext cx="83534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92000" y="1052640"/>
            <a:ext cx="2689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616200" y="1052640"/>
            <a:ext cx="2689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40040" y="1052640"/>
            <a:ext cx="2689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792000" y="3647880"/>
            <a:ext cx="2689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616200" y="3647880"/>
            <a:ext cx="2689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40040" y="3647880"/>
            <a:ext cx="2689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26280"/>
            <a:ext cx="83534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792000" y="1052640"/>
            <a:ext cx="83520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640" y="26280"/>
            <a:ext cx="83534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92000" y="1052640"/>
            <a:ext cx="83520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640" y="26280"/>
            <a:ext cx="83534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92000" y="1052640"/>
            <a:ext cx="4075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71680" y="1052640"/>
            <a:ext cx="4075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26280"/>
            <a:ext cx="83534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755640" y="43920"/>
            <a:ext cx="8353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26280"/>
            <a:ext cx="83534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92000" y="1052640"/>
            <a:ext cx="4075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71680" y="1052640"/>
            <a:ext cx="4075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92000" y="3647880"/>
            <a:ext cx="4075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26280"/>
            <a:ext cx="83534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792000" y="1052640"/>
            <a:ext cx="83520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26280"/>
            <a:ext cx="83534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92000" y="1052640"/>
            <a:ext cx="4075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71680" y="1052640"/>
            <a:ext cx="4075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71680" y="3647880"/>
            <a:ext cx="4075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640" y="26280"/>
            <a:ext cx="83534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92000" y="1052640"/>
            <a:ext cx="4075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71680" y="1052640"/>
            <a:ext cx="4075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792000" y="3647880"/>
            <a:ext cx="83520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26280"/>
            <a:ext cx="83534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92000" y="1052640"/>
            <a:ext cx="83520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792000" y="3647880"/>
            <a:ext cx="83520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26280"/>
            <a:ext cx="83534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92000" y="1052640"/>
            <a:ext cx="4075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71680" y="1052640"/>
            <a:ext cx="4075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92000" y="3647880"/>
            <a:ext cx="4075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71680" y="3647880"/>
            <a:ext cx="4075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640" y="26280"/>
            <a:ext cx="83534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92000" y="1052640"/>
            <a:ext cx="2689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16200" y="1052640"/>
            <a:ext cx="2689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40040" y="1052640"/>
            <a:ext cx="2689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792000" y="3647880"/>
            <a:ext cx="2689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16200" y="3647880"/>
            <a:ext cx="2689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40040" y="3647880"/>
            <a:ext cx="2689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640" y="26280"/>
            <a:ext cx="83534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2000" y="1052640"/>
            <a:ext cx="83520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26280"/>
            <a:ext cx="83534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92000" y="1052640"/>
            <a:ext cx="4075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71680" y="1052640"/>
            <a:ext cx="4075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26280"/>
            <a:ext cx="83534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755640" y="43920"/>
            <a:ext cx="8353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5640" y="26280"/>
            <a:ext cx="83534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92000" y="1052640"/>
            <a:ext cx="4075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71680" y="1052640"/>
            <a:ext cx="4075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92000" y="3647880"/>
            <a:ext cx="4075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640" y="26280"/>
            <a:ext cx="83534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2000" y="1052640"/>
            <a:ext cx="4075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71680" y="1052640"/>
            <a:ext cx="4075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1680" y="3647880"/>
            <a:ext cx="4075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55640" y="26280"/>
            <a:ext cx="83534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92000" y="1052640"/>
            <a:ext cx="4075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1680" y="1052640"/>
            <a:ext cx="4075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92000" y="3647880"/>
            <a:ext cx="83520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0920" y="44280"/>
            <a:ext cx="8893080" cy="576360"/>
          </a:xfrm>
          <a:prstGeom prst="rect">
            <a:avLst/>
          </a:prstGeom>
          <a:solidFill>
            <a:srgbClr val="339933">
              <a:alpha val="90000"/>
            </a:srgbClr>
          </a:solidFill>
          <a:ln w="18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55640" y="43920"/>
            <a:ext cx="8353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"/>
          <p:cNvSpPr/>
          <p:nvPr/>
        </p:nvSpPr>
        <p:spPr>
          <a:xfrm>
            <a:off x="0" y="6093000"/>
            <a:ext cx="8820000" cy="69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92000" y="1052640"/>
            <a:ext cx="83520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093000"/>
            <a:ext cx="8820000" cy="0"/>
          </a:xfrm>
          <a:prstGeom prst="line">
            <a:avLst/>
          </a:prstGeom>
          <a:ln w="3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820000" y="6093000"/>
            <a:ext cx="0" cy="691920"/>
          </a:xfrm>
          <a:prstGeom prst="line">
            <a:avLst/>
          </a:prstGeom>
          <a:ln w="3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799320"/>
            <a:ext cx="8820000" cy="0"/>
          </a:xfrm>
          <a:prstGeom prst="line">
            <a:avLst/>
          </a:prstGeom>
          <a:ln w="3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257480" y="6151680"/>
            <a:ext cx="1226520" cy="732600"/>
            <a:chOff x="1257480" y="6151680"/>
            <a:chExt cx="1226520" cy="732600"/>
          </a:xfrm>
        </p:grpSpPr>
        <p:grpSp>
          <p:nvGrpSpPr>
            <p:cNvPr id="8" name=""/>
            <p:cNvGrpSpPr/>
            <p:nvPr/>
          </p:nvGrpSpPr>
          <p:grpSpPr>
            <a:xfrm>
              <a:off x="1617120" y="6151680"/>
              <a:ext cx="521640" cy="533880"/>
              <a:chOff x="1617120" y="6151680"/>
              <a:chExt cx="521640" cy="533880"/>
            </a:xfrm>
          </p:grpSpPr>
          <p:pic>
            <p:nvPicPr>
              <p:cNvPr id="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654200" y="6151680"/>
                <a:ext cx="447120" cy="47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>
                <a:off x="1617120" y="6606720"/>
                <a:ext cx="521640" cy="78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1257480" y="6592680"/>
              <a:ext cx="122652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INISTRY OF AGRICULTURE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AND RURAL DEVELOPMENT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" name="" descr=""/>
          <p:cNvPicPr/>
          <p:nvPr/>
        </p:nvPicPr>
        <p:blipFill>
          <a:blip r:embed="rId3"/>
          <a:stretch/>
        </p:blipFill>
        <p:spPr>
          <a:xfrm>
            <a:off x="6012000" y="6316560"/>
            <a:ext cx="620640" cy="35244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4"/>
          <a:stretch/>
        </p:blipFill>
        <p:spPr>
          <a:xfrm>
            <a:off x="4572000" y="6165720"/>
            <a:ext cx="428760" cy="574920"/>
          </a:xfrm>
          <a:prstGeom prst="rect">
            <a:avLst/>
          </a:prstGeom>
          <a:ln w="0">
            <a:noFill/>
          </a:ln>
        </p:spPr>
      </p:pic>
      <p:pic>
        <p:nvPicPr>
          <p:cNvPr id="14" name="" descr=""/>
          <p:cNvPicPr/>
          <p:nvPr/>
        </p:nvPicPr>
        <p:blipFill>
          <a:blip r:embed="rId5"/>
          <a:srcRect l="3029" t="1637" r="44271" b="45512"/>
          <a:stretch/>
        </p:blipFill>
        <p:spPr>
          <a:xfrm>
            <a:off x="2916360" y="6237360"/>
            <a:ext cx="493560" cy="504720"/>
          </a:xfrm>
          <a:prstGeom prst="rect">
            <a:avLst/>
          </a:prstGeom>
          <a:ln w="0">
            <a:noFill/>
          </a:ln>
        </p:spPr>
      </p:pic>
      <p:pic>
        <p:nvPicPr>
          <p:cNvPr id="15" name="" descr=""/>
          <p:cNvPicPr/>
          <p:nvPr/>
        </p:nvPicPr>
        <p:blipFill>
          <a:blip r:embed="rId6"/>
          <a:stretch/>
        </p:blipFill>
        <p:spPr>
          <a:xfrm>
            <a:off x="7451640" y="6165720"/>
            <a:ext cx="561960" cy="57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0920" y="44280"/>
            <a:ext cx="8893080" cy="576360"/>
          </a:xfrm>
          <a:prstGeom prst="rect">
            <a:avLst/>
          </a:prstGeom>
          <a:solidFill>
            <a:srgbClr val="339933">
              <a:alpha val="90000"/>
            </a:srgbClr>
          </a:solidFill>
          <a:ln w="18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093000"/>
            <a:ext cx="8820000" cy="69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093000"/>
            <a:ext cx="8820000" cy="0"/>
          </a:xfrm>
          <a:prstGeom prst="line">
            <a:avLst/>
          </a:prstGeom>
          <a:ln w="3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38760" y="5778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Sustainable Utilization of Natural Resources for Improved Food Security (SUN-Program)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820000" y="6093000"/>
            <a:ext cx="0" cy="691920"/>
          </a:xfrm>
          <a:prstGeom prst="line">
            <a:avLst/>
          </a:prstGeom>
          <a:ln w="3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799320"/>
            <a:ext cx="8820000" cy="0"/>
          </a:xfrm>
          <a:prstGeom prst="line">
            <a:avLst/>
          </a:prstGeom>
          <a:ln w="3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012000" y="6316560"/>
            <a:ext cx="620640" cy="35244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1257480" y="6151680"/>
            <a:ext cx="1226520" cy="732600"/>
            <a:chOff x="1257480" y="6151680"/>
            <a:chExt cx="1226520" cy="732600"/>
          </a:xfrm>
        </p:grpSpPr>
        <p:grpSp>
          <p:nvGrpSpPr>
            <p:cNvPr id="61" name=""/>
            <p:cNvGrpSpPr/>
            <p:nvPr/>
          </p:nvGrpSpPr>
          <p:grpSpPr>
            <a:xfrm>
              <a:off x="1617120" y="6151680"/>
              <a:ext cx="521640" cy="533880"/>
              <a:chOff x="1617120" y="6151680"/>
              <a:chExt cx="521640" cy="533880"/>
            </a:xfrm>
          </p:grpSpPr>
          <p:pic>
            <p:nvPicPr>
              <p:cNvPr id="6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654200" y="6151680"/>
                <a:ext cx="447120" cy="47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>
                <a:off x="1617120" y="6606720"/>
                <a:ext cx="521640" cy="78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1257480" y="6592680"/>
              <a:ext cx="122652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INISTRY OF AGRICULTURE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AND RURAL DEVELOPMENT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572000" y="6165720"/>
            <a:ext cx="428760" cy="574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rcRect l="3029" t="1637" r="44271" b="45512"/>
          <a:stretch/>
        </p:blipFill>
        <p:spPr>
          <a:xfrm>
            <a:off x="2916360" y="6237360"/>
            <a:ext cx="493560" cy="504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7451640" y="6165720"/>
            <a:ext cx="561960" cy="57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2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80360" cy="6165720"/>
          </a:xfrm>
          <a:prstGeom prst="rect">
            <a:avLst/>
          </a:prstGeom>
          <a:solidFill>
            <a:srgbClr val="339933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42920" y="692280"/>
            <a:ext cx="8101080" cy="1368360"/>
          </a:xfrm>
          <a:prstGeom prst="rect">
            <a:avLst/>
          </a:prstGeom>
          <a:solidFill>
            <a:srgbClr val="ffcc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42920" y="2874960"/>
            <a:ext cx="1800360" cy="13460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68360" y="692280"/>
            <a:ext cx="867564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stainable Utilization of Natural Resourc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Improved Food Secur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SUN-Progra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604360" y="6164280"/>
            <a:ext cx="53964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3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0200" y="1278000"/>
            <a:ext cx="1843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64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424720" y="5948280"/>
            <a:ext cx="755640" cy="93672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459640" y="6165720"/>
            <a:ext cx="0" cy="719280"/>
          </a:xfrm>
          <a:prstGeom prst="line">
            <a:avLst/>
          </a:prstGeom>
          <a:ln w="64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6813720"/>
            <a:ext cx="9144000" cy="9972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117440" y="692280"/>
            <a:ext cx="1438560" cy="1287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987640" y="443700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042920" y="4437000"/>
            <a:ext cx="1800360" cy="1368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610000" y="2976480"/>
            <a:ext cx="64767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Job Creation Through Stove Promotion: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 Ethiopia (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GTZ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cember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3640" y="1557000"/>
            <a:ext cx="4103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llow-up during pilot produ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nitoring of production and sales fig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cilitation of micro-credits for produc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1522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ion: Promotion of Stove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836640"/>
            <a:ext cx="7562880" cy="414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Follow-u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mirt plastered" descr=""/>
          <p:cNvPicPr/>
          <p:nvPr/>
        </p:nvPicPr>
        <p:blipFill>
          <a:blip r:embed="rId1">
            <a:lum contrast="20000"/>
          </a:blip>
          <a:srcRect l="0" t="4486" r="0" b="10296"/>
          <a:stretch/>
        </p:blipFill>
        <p:spPr>
          <a:xfrm>
            <a:off x="8602560" y="0"/>
            <a:ext cx="541440" cy="6206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16360" y="3500280"/>
            <a:ext cx="3335400" cy="24307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95280" y="3271680"/>
            <a:ext cx="4176720" cy="26607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4716360" y="1341360"/>
            <a:ext cx="3311640" cy="20163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353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Quantitative Results/Outcom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" name=""/>
          <p:cNvSpPr/>
          <p:nvPr/>
        </p:nvSpPr>
        <p:spPr>
          <a:xfrm>
            <a:off x="7391520" y="19810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836640"/>
            <a:ext cx="7561080" cy="414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Stove  Business Coverage and Sales (Oct. 2008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331120" y="0"/>
            <a:ext cx="812880" cy="62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" name=""/>
          <p:cNvGraphicFramePr/>
          <p:nvPr/>
        </p:nvGraphicFramePr>
        <p:xfrm>
          <a:off x="250920" y="1341360"/>
          <a:ext cx="8424720" cy="4576680"/>
        </p:xfrm>
        <a:graphic>
          <a:graphicData uri="http://schemas.openxmlformats.org/drawingml/2006/table">
            <a:tbl>
              <a:tblPr/>
              <a:tblGrid>
                <a:gridCol w="2975040"/>
                <a:gridCol w="3019320"/>
                <a:gridCol w="2430360"/>
              </a:tblGrid>
              <a:tr h="527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of operational woredas/distric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23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of operational tow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479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ion facilities establish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 ass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25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 ass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of Active Produc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e of Quitting the Business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25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stoves produced (report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7,8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523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stoves sold (report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,8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826920" y="1065240"/>
            <a:ext cx="6405840" cy="49687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50920" y="636480"/>
            <a:ext cx="7561080" cy="414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Stove  Business Coverage and Sales (Oct. 2008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353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Narrow"/>
              </a:rPr>
              <a:t>Quantitative Results/Outcomes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8388360" y="12600"/>
            <a:ext cx="755640" cy="5842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54160" y="1353960"/>
            <a:ext cx="888984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ut of the surveyed sample of produce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5% were unemplo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ose who were employed had been highly insecure with meagre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jority confirmed that they did not possess any technical or business skil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kill transfer through tailored trainings provided as well as the experience gained as a result of running mirt stove business enable them to obtain useful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e 376 active production unit it is possible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2653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volve a work force of more than 1700 people (43% are wom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2653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ist more than 2300 people (50% are below 18 years o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35080" y="745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ve Producers Scenar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0920" y="836640"/>
            <a:ext cx="7561080" cy="414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ncome, Employment and Skil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79280" y="18900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lihood Impacts of Mirt Business on Produc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8388360" y="12600"/>
            <a:ext cx="755640" cy="584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9" name=""/>
          <p:cNvGraphicFramePr/>
          <p:nvPr/>
        </p:nvGraphicFramePr>
        <p:xfrm>
          <a:off x="4716360" y="1125360"/>
          <a:ext cx="4027680" cy="3743640"/>
        </p:xfrm>
        <a:graphic>
          <a:graphicData uri="http://schemas.openxmlformats.org/drawingml/2006/table">
            <a:tbl>
              <a:tblPr/>
              <a:tblGrid>
                <a:gridCol w="3078360"/>
                <a:gridCol w="949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i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67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ility to meet health care expen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ility to support extended fami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cess to finan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rban land acqui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mestic anim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324000" y="1125360"/>
          <a:ext cx="3887640" cy="3764160"/>
        </p:xfrm>
        <a:graphic>
          <a:graphicData uri="http://schemas.openxmlformats.org/drawingml/2006/table">
            <a:tbl>
              <a:tblPr/>
              <a:tblGrid>
                <a:gridCol w="3171600"/>
                <a:gridCol w="71604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di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iness management 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ly cash in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ility to afford clothing expen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ility to meet food expen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cial Accep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ility to meet educational expen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55640" y="26280"/>
            <a:ext cx="83534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92000" y="1052640"/>
            <a:ext cx="83520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50920" y="189000"/>
            <a:ext cx="8893080" cy="44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Via promoting improved stove through private sector development one can contribute to address the poverty reduction by creating job opportunit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95280" y="5715000"/>
            <a:ext cx="4524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or bigger impact we still need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o go a long way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55640" y="26280"/>
            <a:ext cx="83534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92000" y="1052640"/>
            <a:ext cx="83520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692360" y="1197000"/>
            <a:ext cx="6048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ank Yo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r Your Att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78920" y="1341360"/>
            <a:ext cx="8713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224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mote energy efficienc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t all levels (especially the efficient use of biomass resources at 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ousehold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224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mo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e developments of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newable Energy (RE),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promote rational use of natural resources, poverty reduction and food secur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224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hanc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pacity of the different development partne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integrate into their programs and execut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energy development measur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115920"/>
            <a:ext cx="31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250560" y="836280"/>
            <a:ext cx="7561080" cy="376200"/>
          </a:xfrm>
          <a:prstGeom prst="rect">
            <a:avLst/>
          </a:prstGeom>
          <a:solidFill>
            <a:srgbClr val="99cc00">
              <a:alpha val="9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 Narrow"/>
              </a:rPr>
              <a:t>Objectives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3860640"/>
            <a:ext cx="7561080" cy="376560"/>
          </a:xfrm>
          <a:prstGeom prst="rect">
            <a:avLst/>
          </a:prstGeom>
          <a:solidFill>
            <a:srgbClr val="99cc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Overall Go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4365720"/>
            <a:ext cx="8721720" cy="9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tribu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tec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stainable utilizati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natural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24000" y="1341360"/>
            <a:ext cx="687996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mercial dissemin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through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ivate sec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centralised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2924280"/>
            <a:ext cx="896472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proper “marketing mix”:-Product, Price, Promotion &amp; Pl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better chance for long term sustainability and quality standards to be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38720" y="2114640"/>
            <a:ext cx="3657600" cy="703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roduction of a finished product through the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4838760"/>
            <a:ext cx="7925040" cy="947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ac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both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ctors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ercial inter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25520" y="4095720"/>
            <a:ext cx="782964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ther take money from the poor than thei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g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1159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UN-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388360" y="12600"/>
            <a:ext cx="755640" cy="5842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50920" y="836640"/>
            <a:ext cx="7561080" cy="376200"/>
          </a:xfrm>
          <a:prstGeom prst="rect">
            <a:avLst/>
          </a:prstGeom>
          <a:solidFill>
            <a:srgbClr val="99cc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Core Strateg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8388360" y="12600"/>
            <a:ext cx="755640" cy="584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900000" y="1341360"/>
            <a:ext cx="19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50920" y="692280"/>
            <a:ext cx="3808440" cy="525780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211640" y="1844640"/>
            <a:ext cx="4716360" cy="43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50560" y="1341000"/>
            <a:ext cx="8496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principl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on of stove produc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lve all concerned stakeholder for syner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bringing the stove to the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focus should be on individuals  who can bring the stove to the market in a sustainable mann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“agenda hijacking” by taking the leadership: different stakeholders have different pri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Training (selected stove producers and stakeholders' technical staf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sters mutual understanding and tr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ctors can work 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8360" y="12600"/>
            <a:ext cx="755640" cy="584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50920" y="152280"/>
            <a:ext cx="75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ion: Promotion of Stove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692280"/>
            <a:ext cx="7561080" cy="376200"/>
          </a:xfrm>
          <a:prstGeom prst="rect">
            <a:avLst/>
          </a:prstGeom>
          <a:solidFill>
            <a:srgbClr val="99cc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Establishing a network of stove produc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24000" y="1700280"/>
            <a:ext cx="77724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ucation and training  (2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erest and compatibility (2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3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ersonality fact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2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152280"/>
            <a:ext cx="75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ion: Promotion of Stove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mirt plastered" descr=""/>
          <p:cNvPicPr/>
          <p:nvPr/>
        </p:nvPicPr>
        <p:blipFill>
          <a:blip r:embed="rId1">
            <a:lum contrast="20000"/>
          </a:blip>
          <a:srcRect l="0" t="4486" r="0" b="10296"/>
          <a:stretch/>
        </p:blipFill>
        <p:spPr>
          <a:xfrm>
            <a:off x="8602560" y="0"/>
            <a:ext cx="541440" cy="6206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50920" y="836640"/>
            <a:ext cx="7561080" cy="376200"/>
          </a:xfrm>
          <a:prstGeom prst="rect">
            <a:avLst/>
          </a:prstGeom>
          <a:solidFill>
            <a:srgbClr val="99cc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e Producers Selection Criter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560" y="836280"/>
            <a:ext cx="7561080" cy="376200"/>
          </a:xfrm>
          <a:prstGeom prst="rect">
            <a:avLst/>
          </a:prstGeom>
          <a:solidFill>
            <a:srgbClr val="99cc00">
              <a:alpha val="9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echnical Training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3962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oretical (2 day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cts and figures about energy, the natural resources and the environment in Ethio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roduction to the theory of combustion, stove design and stove dimensio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V AIDS : the “window of hope” age group and the fam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actical (2 da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duction, installation and usage of the mirt st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859280" y="1413000"/>
            <a:ext cx="2879640" cy="21603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250920" y="15228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ion: Promotion of Stove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mirt plastered" descr=""/>
          <p:cNvPicPr/>
          <p:nvPr/>
        </p:nvPicPr>
        <p:blipFill>
          <a:blip r:embed="rId2">
            <a:lum contrast="20000"/>
          </a:blip>
          <a:srcRect l="0" t="4486" r="0" b="10296"/>
          <a:stretch/>
        </p:blipFill>
        <p:spPr>
          <a:xfrm>
            <a:off x="8602560" y="0"/>
            <a:ext cx="541440" cy="62064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4859280" y="3789360"/>
            <a:ext cx="2881440" cy="2214720"/>
            <a:chOff x="4859280" y="3789360"/>
            <a:chExt cx="2881440" cy="2214720"/>
          </a:xfrm>
        </p:grpSpPr>
        <p:pic>
          <p:nvPicPr>
            <p:cNvPr id="157" name="" descr=""/>
            <p:cNvPicPr/>
            <p:nvPr/>
          </p:nvPicPr>
          <p:blipFill>
            <a:blip r:embed="rId3"/>
            <a:stretch/>
          </p:blipFill>
          <p:spPr>
            <a:xfrm>
              <a:off x="4859280" y="3789360"/>
              <a:ext cx="2881440" cy="2214720"/>
            </a:xfrm>
            <a:prstGeom prst="rect">
              <a:avLst/>
            </a:prstGeom>
            <a:ln w="22320">
              <a:solidFill>
                <a:srgbClr val="008000"/>
              </a:solidFill>
              <a:miter/>
            </a:ln>
          </p:spPr>
        </p:pic>
        <p:sp>
          <p:nvSpPr>
            <p:cNvPr id="158" name=""/>
            <p:cNvSpPr txBox="1"/>
            <p:nvPr/>
          </p:nvSpPr>
          <p:spPr>
            <a:xfrm>
              <a:off x="4859280" y="3789360"/>
              <a:ext cx="2881440" cy="221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99cc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2000" y="826920"/>
            <a:ext cx="7559640" cy="370080"/>
          </a:xfrm>
          <a:prstGeom prst="rect">
            <a:avLst/>
          </a:prstGeom>
          <a:solidFill>
            <a:srgbClr val="99cc00">
              <a:alpha val="9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usiness Management Training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3640" y="2492280"/>
            <a:ext cx="432108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ining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9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siness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duct pr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k-kee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rketing (CEFE /SIY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produc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716360" y="3860640"/>
            <a:ext cx="2951280" cy="210528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62" name=""/>
          <p:cNvSpPr/>
          <p:nvPr/>
        </p:nvSpPr>
        <p:spPr>
          <a:xfrm>
            <a:off x="250920" y="15228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ion: Promotion of Stove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mirt plastered" descr=""/>
          <p:cNvPicPr/>
          <p:nvPr/>
        </p:nvPicPr>
        <p:blipFill>
          <a:blip r:embed="rId2">
            <a:lum contrast="20000"/>
          </a:blip>
          <a:srcRect l="0" t="4486" r="0" b="10296"/>
          <a:stretch/>
        </p:blipFill>
        <p:spPr>
          <a:xfrm>
            <a:off x="8602560" y="0"/>
            <a:ext cx="541440" cy="6206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4643280" y="1341360"/>
            <a:ext cx="3015000" cy="227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50920" y="836640"/>
            <a:ext cx="7561080" cy="414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Assista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191628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truction of shed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1280" y="3357720"/>
            <a:ext cx="32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sion of tools and moul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4941720"/>
            <a:ext cx="36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sion of start up raw material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40360" y="3403440"/>
            <a:ext cx="5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Wingdings"/>
                <a:ea typeface="Wingdings"/>
              </a:rPr>
              <a:t>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40360" y="4941720"/>
            <a:ext cx="5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Wingdings"/>
                <a:ea typeface="Wingdings"/>
              </a:rPr>
              <a:t>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40360" y="1916280"/>
            <a:ext cx="5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Wingdings"/>
                <a:ea typeface="Wingdings"/>
              </a:rPr>
              <a:t>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413000"/>
            <a:ext cx="51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ing a network of stove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8388360" y="12600"/>
            <a:ext cx="755640" cy="5842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50920" y="15228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ion: Promotion of Stove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076720" y="3068640"/>
            <a:ext cx="2159280" cy="16527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5076720" y="1384200"/>
            <a:ext cx="2160720" cy="16131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5076720" y="4797360"/>
            <a:ext cx="2159280" cy="1190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02:06:35Z</dcterms:created>
  <dc:creator>user</dc:creator>
  <dc:description/>
  <dc:language>en-US</dc:language>
  <cp:lastModifiedBy>Jan-Hendrik Soehlemann</cp:lastModifiedBy>
  <dcterms:modified xsi:type="dcterms:W3CDTF">2009-01-08T09:03:55Z</dcterms:modified>
  <cp:revision>25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